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9fd91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9fd91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9fd91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49CE-24C3-478D-AEA1-4AF3259494A8}" type="slidenum">
              <a:rPr b="0" lang="pl-PL" sz="1200" spc="-1" strike="noStrike">
                <a:solidFill>
                  <a:srgbClr val="99fd9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B999-F313-456E-88AA-73D93C4AA2C8}" type="slidenum">
              <a:rPr b="0" lang="pl-PL" sz="1200" spc="-1" strike="noStrike">
                <a:solidFill>
                  <a:srgbClr val="99fd9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A76-9496-469C-BD06-B1C9E35D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5A3-80BB-49FE-8281-6DDD8B5C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F8F-7E39-4DF0-8076-EDDD980E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46E-BD9D-47B8-BBF8-E0528AEB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985-9EF4-4CAF-A31E-32E1E41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191-6772-46D4-AF9E-F38766C9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BFB-F9CA-4B73-9A4B-1158D328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407-EA26-4D5F-A072-C437D44E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9AE-46E4-47B5-BC81-007AF25E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145-C6BD-4BF5-8C09-9232B67E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93E-9B76-481C-AA47-082EA5FB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E7B-D43F-4CC6-86CD-AF0E66A5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EB6B-C416-466C-8F4C-D593E28C674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26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26.xml"/><Relationship Id="rId4" Type="http://schemas.openxmlformats.org/officeDocument/2006/relationships/slide" Target="slide36.xml"/><Relationship Id="rId5" Type="http://schemas.openxmlformats.org/officeDocument/2006/relationships/slide" Target="slide8.xml"/><Relationship Id="rId6" Type="http://schemas.openxmlformats.org/officeDocument/2006/relationships/slide" Target="slide4.xml"/><Relationship Id="rId7" Type="http://schemas.openxmlformats.org/officeDocument/2006/relationships/slide" Target="slide26.xml"/><Relationship Id="rId8" Type="http://schemas.openxmlformats.org/officeDocument/2006/relationships/slide" Target="slide36.xm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ECI KOMPUTEROW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ykł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arstw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eciow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racowanie: Wojciech Fol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Warstwa sieciowa –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ałożenia podział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względnienie położenia geograficzn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nieważ nadawca zazwyczaj nie zna drogi do odbiorcy, jego pakiety są routowane (wyjątek stanowi routing źródłow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Realizacja stawianych zada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nformacje niezbędne do znalezienia drogi pakietu znajdują się w tablicach routingu znajdujących się na routerach (również na niektórych hosta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względnienie praw właścicieli sie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pisy statyczne do tablic routingu gwarantują (wymuszają) działanie sieci zgodnie z założeniami administratora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ziałanie rout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628640"/>
          <a:ext cx="4038480" cy="397080"/>
        </p:xfrm>
        <a:graphic>
          <a:graphicData uri="http://schemas.openxmlformats.org/drawingml/2006/table">
            <a:tbl>
              <a:tblPr/>
              <a:tblGrid>
                <a:gridCol w="700200"/>
                <a:gridCol w="703080"/>
                <a:gridCol w="1874880"/>
                <a:gridCol w="760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2</a:t>
                      </a:r>
                      <a:endParaRPr b="0" lang="en-US" sz="20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4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</a:t>
                      </a:r>
                      <a:endParaRPr b="0" lang="en-US" sz="20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d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2</a:t>
                      </a:r>
                      <a:endParaRPr b="0" lang="en-US" sz="20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46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716360" y="6021360"/>
          <a:ext cx="3981600" cy="395280"/>
        </p:xfrm>
        <a:graphic>
          <a:graphicData uri="http://schemas.openxmlformats.org/drawingml/2006/table">
            <a:tbl>
              <a:tblPr/>
              <a:tblGrid>
                <a:gridCol w="690840"/>
                <a:gridCol w="693720"/>
                <a:gridCol w="1846080"/>
                <a:gridCol w="75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2’</a:t>
                      </a:r>
                      <a:endParaRPr b="0" lang="en-US" sz="20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4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</a:t>
                      </a:r>
                      <a:endParaRPr b="0" lang="en-US" sz="20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d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2’</a:t>
                      </a:r>
                      <a:endParaRPr b="0" lang="en-US" sz="20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46c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50"/>
          <p:cNvSpPr/>
          <p:nvPr/>
        </p:nvSpPr>
        <p:spPr>
          <a:xfrm>
            <a:off x="468360" y="242100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dbiór pakietu z bufora portu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apsulacja nagłówków warstwy 2 (odrzucenie ich)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kstrakcja adresu IP odbiorcy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pasowanie tego adresu do wpisów w tablicy routingu (znalezienie portu wyjściowego i sieci, do której nastąpi najbliższe przesłanie)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apsulacja nowych nagłówków warstwy 2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słanie pakietu  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Tablica routing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Wpisy zawierające pary: sieć docelowa + sieć bezpośrednio dołączona (po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chodzenie wpisów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utomatyczne dla sieci bezpośrednio podłączonych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tatyczne przez administrator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ynamiczne przez protokoły routingu dynamiczne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Protokoł I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Cech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Bezpołączeniowy </a:t>
            </a:r>
            <a:r>
              <a:rPr b="0" i="1" lang="pl-PL" sz="3200" spc="-1" strike="noStrike">
                <a:solidFill>
                  <a:srgbClr val="000000"/>
                </a:solidFill>
                <a:latin typeface="Tahoma"/>
              </a:rPr>
              <a:t>(connectionl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Zawodny </a:t>
            </a:r>
            <a:r>
              <a:rPr b="0" i="1" lang="pl-PL" sz="3200" spc="-1" strike="noStrike">
                <a:solidFill>
                  <a:srgbClr val="000000"/>
                </a:solidFill>
                <a:latin typeface="Tahoma"/>
              </a:rPr>
              <a:t>(best effo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Niezależny od me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okół I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Adres 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składa się z 2 części: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adres sieci  +  adres ho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Wszytkie hosty w danej sieci mają jednakowy adres sieciowy, ale unikalny adres hosta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Dwa hosty w różnych sieciach </a:t>
            </a:r>
            <a:r>
              <a:rPr b="0" i="1" lang="pl-PL" sz="3200" spc="-1" strike="noStrike">
                <a:solidFill>
                  <a:srgbClr val="000000"/>
                </a:solidFill>
                <a:latin typeface="Tahoma"/>
              </a:rPr>
              <a:t>muszą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mieć różny adres sieciowy, ale mogą mieć taki sam adres host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lasy adresó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844640"/>
            <a:ext cx="7239240" cy="360036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876920"/>
            <a:ext cx="838440" cy="42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20073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876920"/>
            <a:ext cx="838440" cy="42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20073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4876920"/>
            <a:ext cx="838080" cy="42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2007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876920"/>
            <a:ext cx="838440" cy="42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20073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057400"/>
            <a:ext cx="6705720" cy="838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576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s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133720"/>
            <a:ext cx="1295640" cy="6858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Identyfikator</a:t>
            </a:r>
            <a:br>
              <a:rPr sz="1600"/>
            </a:b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ieci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2133720"/>
            <a:ext cx="3733560" cy="685800"/>
          </a:xfrm>
          <a:prstGeom prst="rect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Identyfikator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hosta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2743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743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743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971800"/>
            <a:ext cx="6705720" cy="838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576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s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3048120"/>
            <a:ext cx="2514600" cy="6858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Identyfikator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ieci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048120"/>
            <a:ext cx="2514600" cy="685800"/>
          </a:xfrm>
          <a:prstGeom prst="rect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Identyfikator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hosta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657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657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657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886200"/>
            <a:ext cx="6705720" cy="838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576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s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C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3933720"/>
            <a:ext cx="3733920" cy="6858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Identyfikator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ieci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3962520"/>
            <a:ext cx="1295280" cy="685800"/>
          </a:xfrm>
          <a:prstGeom prst="rect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Identyfikator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hosta</a:t>
            </a: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45720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45720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45720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lasy adresó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zynależność do klasy określają 3 pierwsze bi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0 - adres klasy A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olejne siedem bitów identyfikuje sieć. Pozostałe 24 bity identyfikują komputer w sieci. Ogółem możliwych jest 127 sieci klasy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 -adres klasy B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wa pierwsze bity określają klasę, następnych 14 identyfikuje sieć, a 16 ostatnich - kompu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0 – adres klasy C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ierwsze trzy bity określają klasę, 21 kolejnych określa sieć. Osiem ostatnich bitów identyfikuje kompu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1 -adres specjaln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zarezerwowany, określany często mianem adresu klasy D. Są to tzw. adresy grupowe. Można je nadawać grupom komputerów, które korzystają ze wspólnego protokoł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ska podsiec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aska podsieci dzieli nam adres IP na adres sieci i adres hos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Klasa A - 255.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Klasa B - 255.255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Klasa C - 255.255.255.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resy specjal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Adresy zarezerwowa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0.0.0.0 – adres domyślny (defaul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27.0.0.0/8 są przypisane do urządzenia loopbac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27.0.0.1 - do testu zwrotnego (loopba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255.255.255.255 – maska domyślna (defaul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dresy prywatne (następny slaj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y prywat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2276640"/>
          <a:ext cx="8229600" cy="3066840"/>
        </p:xfrm>
        <a:graphic>
          <a:graphicData uri="http://schemas.openxmlformats.org/drawingml/2006/table">
            <a:tbl>
              <a:tblPr/>
              <a:tblGrid>
                <a:gridCol w="739800"/>
                <a:gridCol w="1852560"/>
                <a:gridCol w="719280"/>
                <a:gridCol w="1482840"/>
                <a:gridCol w="1614240"/>
                <a:gridCol w="18208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lasa 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ery sieci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l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-Bold"/>
                        </a:rPr>
                        <a:t>ść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-Bol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ska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dsieci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czba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-Bold"/>
                        </a:rPr>
                        <a:t>h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stów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-Bold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TE19EE208t00"/>
                        </a:rPr>
                        <a:t>ż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TE19EE208t00"/>
                        </a:rPr>
                        <a:t>ą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-Bold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eci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akres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resacji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0.0.0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5.0.0.0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 777 214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0.0.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255.255.254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d 172.16.0.0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 172.16.31.0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5.255.0.0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 534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2.16.0.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2.16.31.254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d 192.168.0.0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 192.168.255.0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6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5.255.255.0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= 254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2.168.0.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2.168.255.254</a:t>
                      </a:r>
                      <a:endParaRPr b="0" lang="en-US" sz="16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Zadania warstwy sieciowej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755640" y="1844640"/>
            <a:ext cx="755964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nalezienie (najlepszej) drogi łączącej dwa hosty</a:t>
            </a:r>
            <a:endParaRPr b="0" lang="en-US" sz="3200" spc="-1" strike="noStrike">
              <a:solidFill>
                <a:srgbClr val="99fd91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pewnienie adresacji logicznej</a:t>
            </a:r>
            <a:endParaRPr b="0" lang="en-US" sz="3200" spc="-1" strike="noStrike">
              <a:solidFill>
                <a:srgbClr val="99fd91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nkapsulacja i dekapsulacja pakietów</a:t>
            </a:r>
            <a:endParaRPr b="0" lang="en-US" sz="32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odzaje adresó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Typy adresów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okalny (limi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kierowany (direc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Adresy wyróżnio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ie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hosta w sie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rozgłoszeniowy w sie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lasy adresó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ział adresów IP na klasy ma obecnie znaczenie czysto historycz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ział klasowy w małym stopniu wykorzystywał pulę adresó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ostał zastąpiony adresacją bezklasow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resacja bezklasow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ga na podziale adresu IP na część identyfikującą sieć i hosty na dowolnej pozycji bitu adres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rzykła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48.155.80.84/2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68360" y="1773360"/>
          <a:ext cx="8229600" cy="4751280"/>
        </p:xfrm>
        <a:graphic>
          <a:graphicData uri="http://schemas.openxmlformats.org/drawingml/2006/table">
            <a:tbl>
              <a:tblPr/>
              <a:tblGrid>
                <a:gridCol w="1008000"/>
                <a:gridCol w="1150920"/>
                <a:gridCol w="1944720"/>
                <a:gridCol w="1008000"/>
                <a:gridCol w="31179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wersja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długość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typ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długość całkowita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identyfikacja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znacz.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przesunięcie fragmentu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</a:tr>
              <a:tr h="593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czas życia (TTL)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protokół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suma kontrolna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adres nadawcy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res odbiorcy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cje (opcjonalne)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zupełnienie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    a     n     e</a:t>
                      </a: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d1a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fd9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7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Format pakietu IP</a:t>
            </a:r>
            <a:endParaRPr b="0" lang="en-US" sz="32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ersja (VERS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e 4-bitowe określa typ protokołu 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ość 4 oznacza to wersję czwartą protokołu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ość 6 oznacza IPv6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różnianie pomiędzy pakietami wersji 4 i 6 jest przeprowadzane już przy analizowani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mki warstwy drugie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przez badanie pola typu protokołu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trzałka w lewo 7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ługość nagłówka (HLEN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 4 bitowe określa </a:t>
            </a:r>
            <a:r>
              <a:rPr b="0" lang="pl-PL" sz="3200" spc="-1" strike="noStrike">
                <a:solidFill>
                  <a:srgbClr val="990033"/>
                </a:solidFill>
                <a:latin typeface="Tahoma"/>
              </a:rPr>
              <a:t>długość </a:t>
            </a:r>
            <a:r>
              <a:rPr b="0" lang="pl-PL" sz="3200" spc="-1" strike="noStrike">
                <a:solidFill>
                  <a:srgbClr val="990033"/>
                </a:solidFill>
                <a:latin typeface="Arial"/>
              </a:rPr>
              <a:t>nagłówka </a:t>
            </a:r>
            <a:r>
              <a:rPr b="0" lang="pl-PL" sz="3200" spc="-1" strike="noStrike">
                <a:solidFill>
                  <a:srgbClr val="990033"/>
                </a:solidFill>
                <a:latin typeface="Tahoma"/>
              </a:rPr>
              <a:t>datagram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wyrażoną jako wielokrotność 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słów 32 bitowych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7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yp usługi (TOS ang. Type-of-Service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125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-bitowe pole określa poziom ważności jaki został nadany przez protokół wyższej warstw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naczenie poszczególnych bitów tego pola jest następując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erwsze 3 bity: wartość 0 - stopień normalny, wartość 7 - sterowanie sieci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zwarty bit - O - prośba o krótkie czasy oczekiwan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ąty bit - S - prośba o przesyłanie danych szybkimi łącz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zósty bit P - prośba o dużą pewność przesyłania dan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y 7 i 8 nieużyw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ługość całkowit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e 16-bitow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yrażające 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ługość całego pakietu w bajtach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 celu uzyskania długości pola danych należy odjąć od długości całkowitej długość nagłówka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tość minimalna wynosi 576 oktetów zaś maksymalna 65535 oktetów, tzn. 64k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Identyfikacj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18442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Identyfikacja - 16 bitowe pole używan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do określania numeru sekwencyjnego bieżącego datagram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trzałka w lewo 4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Znacznik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bitowe p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b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zawsze wartość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b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eru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agmentacją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0- oznacz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ż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kiet może zostać podzielony na fragmenty, 1 - nie może być podzielon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wartoś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gdy jest t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tatni pakiet powstały w wyniku podzielen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śl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t 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kiet ze środ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Warstwy modelu OSI/IS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708360" y="1628640"/>
            <a:ext cx="498960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arstwa ta odpowiada za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znalezienie najlepszej drogi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łączącej dwa hosty, które mogą się znajdować w oddzielnych sieciach lokalny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Jej zadaniem jest także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ostarczenie adresacji logicznej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Jednym z protokołów pracujących w warstwie sieciowej jest I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4">
            <a:hlinkClick r:id="rId1" action="ppaction://hlinksldjump"/>
          </p:cNvPr>
          <p:cNvSpPr/>
          <p:nvPr/>
        </p:nvSpPr>
        <p:spPr>
          <a:xfrm>
            <a:off x="396720" y="5734080"/>
            <a:ext cx="2362320" cy="45720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fd91"/>
                </a:solidFill>
                <a:latin typeface="Tahoma"/>
              </a:rPr>
              <a:t>Fizyczna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55" name="Rectangle 5">
            <a:hlinkClick r:id="rId2" action="ppaction://hlinksldjump"/>
          </p:cNvPr>
          <p:cNvSpPr/>
          <p:nvPr/>
        </p:nvSpPr>
        <p:spPr>
          <a:xfrm>
            <a:off x="396720" y="5013360"/>
            <a:ext cx="2362320" cy="45720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fd91"/>
                </a:solidFill>
                <a:latin typeface="Tahoma"/>
              </a:rPr>
              <a:t>Łącza danych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56" name="Rectangle 6">
            <a:hlinkClick r:id="rId3" action="ppaction://hlinksldjump"/>
          </p:cNvPr>
          <p:cNvSpPr/>
          <p:nvPr/>
        </p:nvSpPr>
        <p:spPr>
          <a:xfrm>
            <a:off x="396720" y="4365720"/>
            <a:ext cx="2362320" cy="45720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Sieciowa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57" name="Rectangle 7">
            <a:hlinkClick r:id="rId4" action="ppaction://hlinksldjump"/>
          </p:cNvPr>
          <p:cNvSpPr/>
          <p:nvPr/>
        </p:nvSpPr>
        <p:spPr>
          <a:xfrm>
            <a:off x="396720" y="3716280"/>
            <a:ext cx="2362320" cy="45720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fd91"/>
                </a:solidFill>
                <a:latin typeface="Tahoma"/>
              </a:rPr>
              <a:t>Transportowa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96720" y="3068640"/>
            <a:ext cx="2362320" cy="45720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fd91"/>
                </a:solidFill>
                <a:latin typeface="Tahoma"/>
              </a:rPr>
              <a:t>Sesji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68360" y="1700280"/>
            <a:ext cx="2362320" cy="45720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fd91"/>
                </a:solidFill>
                <a:latin typeface="Tahoma"/>
              </a:rPr>
              <a:t>Aplikacji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68360" y="2421000"/>
            <a:ext cx="2362320" cy="45720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fd91"/>
                </a:solidFill>
                <a:latin typeface="Tahoma"/>
              </a:rPr>
              <a:t>Prezentacji</a:t>
            </a:r>
            <a:endParaRPr b="0" lang="en-US" sz="24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2987640" y="4437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7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zesunięcie fragment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915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13-bitowe pole służ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do składania fragmentów datagramu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trzałka w lewo 7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Czas życia (TTL, ang. Time To Live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8-bitowe pole określa liczbę routerów (przeskoków), przez które może być przesłany pakiet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Wartość tego pola jest zmniejszana przy przejśc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przez każdy router na ścieżc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Gdy wartość tego pola wynosi 0, wtedy pakiet taki jest odrzucan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(jest wyjątek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sada ta pozwala na stosowa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mechanizmów zapobiegających zapętlaniu się tras routing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7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okó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7640" y="126828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8-bitowe pole określa, który z protokołów warstwy wyższej odpowiada za przetworzenie pola Dane. Możliwe opcje tego pol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 - ICMP (ang. Internet Control Message Protocol) - protokół komunikacyjny sterowania siecią Interne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 - IGMP (ang. Internet Group Message Protocol) - protokół zarządzania grupami Internetowym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6 - TCP - (ang. Transmission Control Protocol) - protokół sterujący transmisją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8 - EGP - (ang. Exterior Gateway Protocol) - zewnętrzny protokół bramowy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7 - UDP - (ang. User Datagram Protocol) - protokół datagramów użytkowni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7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a kontrolna nagłówk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-bitowe pole z sumą kontrolną nagłówka pozwalającą stwierdzić, czy nie nastąpiło, naruszenie integralności nagłówka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 względu na fakt, że każdy router dokonuje zmian w nagłówku musi ona być przeliczona na każdy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 routeró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trzałka w lewo 4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res IP nadaw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23493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-bitowe pole z adresem IP nadawcy pakie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7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res IP odbior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-bitowe pole z adresem IP odbiorcy pakie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zupełnienie (Wypełnieni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e to jest wypełnione zerami i jest potrzebne, żeby długość nagłówka była wielokrotnością 32 bitó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patrz -&gt; Długość nagłówka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22046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e o długości do 64kB zawierające da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ochodzące z wyższych warst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cj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Opcje - pole to nie występuje we wszystkich pakietach, składa się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 jednego bajtu kodu opcji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anych dla wskazanej opcj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Opcje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jt kodu opcj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0 kopiuj – przy fragmentacji pakie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oznacza, że opcje odnoszą się tylko do pierwszego pakie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oznacza, że opcje odnoszą się do wszystkich fragmentów podzielonego pakie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1-2 kl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- oznacza kontrolę pakietów lub sie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zostało zarezerwowane do przyszłego użyt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- poprawianie błędów i pomi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- zarezerwowane do przyszłego użytk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Warstwa sieciowa modelu OSI/IS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76720" y="4292640"/>
            <a:ext cx="2303280" cy="79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ahoma"/>
              </a:rPr>
              <a:t>Dostarcz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ahoma"/>
              </a:rPr>
              <a:t>pakie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32">
            <a:hlinkClick r:id="rId1" action="ppaction://hlinksldjump"/>
          </p:cNvPr>
          <p:cNvSpPr/>
          <p:nvPr/>
        </p:nvSpPr>
        <p:spPr>
          <a:xfrm>
            <a:off x="6235560" y="5734080"/>
            <a:ext cx="2217960" cy="35892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Fizyczna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65" name="Rectangle 33">
            <a:hlinkClick r:id="rId2" action="ppaction://hlinksldjump"/>
          </p:cNvPr>
          <p:cNvSpPr/>
          <p:nvPr/>
        </p:nvSpPr>
        <p:spPr>
          <a:xfrm>
            <a:off x="6234120" y="5013360"/>
            <a:ext cx="2217600" cy="35892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Łącza danych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66" name="Rectangle 34">
            <a:hlinkClick r:id="rId3" action="ppaction://hlinksldjump"/>
          </p:cNvPr>
          <p:cNvSpPr/>
          <p:nvPr/>
        </p:nvSpPr>
        <p:spPr>
          <a:xfrm>
            <a:off x="6232680" y="4365720"/>
            <a:ext cx="2217600" cy="35856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ahoma"/>
              </a:rPr>
              <a:t>Sieciowa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67" name="Rectangle 35">
            <a:hlinkClick r:id="rId4" action="ppaction://hlinksldjump"/>
          </p:cNvPr>
          <p:cNvSpPr/>
          <p:nvPr/>
        </p:nvSpPr>
        <p:spPr>
          <a:xfrm>
            <a:off x="6230880" y="3716280"/>
            <a:ext cx="2217960" cy="35892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Transportowa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6229440" y="3068640"/>
            <a:ext cx="2217600" cy="35892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Sesji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6300720" y="1700280"/>
            <a:ext cx="2217960" cy="35856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Aplikacji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70" name="Rectangle 38"/>
          <p:cNvSpPr/>
          <p:nvPr/>
        </p:nvSpPr>
        <p:spPr>
          <a:xfrm>
            <a:off x="6300720" y="2421000"/>
            <a:ext cx="2217960" cy="35856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Prezentacji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71" name="Rectangle 66">
            <a:hlinkClick r:id="rId5" action="ppaction://hlinksldjump"/>
          </p:cNvPr>
          <p:cNvSpPr/>
          <p:nvPr/>
        </p:nvSpPr>
        <p:spPr>
          <a:xfrm>
            <a:off x="395280" y="5805360"/>
            <a:ext cx="2217600" cy="35892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Fizyczna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72" name="Rectangle 67">
            <a:hlinkClick r:id="rId6" action="ppaction://hlinksldjump"/>
          </p:cNvPr>
          <p:cNvSpPr/>
          <p:nvPr/>
        </p:nvSpPr>
        <p:spPr>
          <a:xfrm>
            <a:off x="395280" y="5084640"/>
            <a:ext cx="2217600" cy="35892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Łącza danych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73" name="Rectangle 68">
            <a:hlinkClick r:id="rId7" action="ppaction://hlinksldjump"/>
          </p:cNvPr>
          <p:cNvSpPr/>
          <p:nvPr/>
        </p:nvSpPr>
        <p:spPr>
          <a:xfrm>
            <a:off x="395280" y="4437000"/>
            <a:ext cx="2217600" cy="35892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ahoma"/>
              </a:rPr>
              <a:t>Sieciowa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74" name="Rectangle 69">
            <a:hlinkClick r:id="rId8" action="ppaction://hlinksldjump"/>
          </p:cNvPr>
          <p:cNvSpPr/>
          <p:nvPr/>
        </p:nvSpPr>
        <p:spPr>
          <a:xfrm>
            <a:off x="395280" y="3789360"/>
            <a:ext cx="2217600" cy="35892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Transportowa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395280" y="3141720"/>
            <a:ext cx="2217600" cy="35856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Sesji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76" name="Rectangle 71"/>
          <p:cNvSpPr/>
          <p:nvPr/>
        </p:nvSpPr>
        <p:spPr>
          <a:xfrm>
            <a:off x="395280" y="1773360"/>
            <a:ext cx="2217600" cy="35856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Aplikacji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395280" y="2492280"/>
            <a:ext cx="2217600" cy="358920"/>
          </a:xfrm>
          <a:prstGeom prst="rect">
            <a:avLst/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9fd91"/>
                </a:solidFill>
                <a:latin typeface="Tahoma"/>
              </a:rPr>
              <a:t>Prezentacji</a:t>
            </a:r>
            <a:endParaRPr b="0" lang="en-US" sz="2200" spc="-1" strike="noStrike">
              <a:solidFill>
                <a:srgbClr val="99fd91"/>
              </a:solidFill>
              <a:latin typeface="Tahoma"/>
            </a:endParaRPr>
          </a:p>
        </p:txBody>
      </p:sp>
      <p:pic>
        <p:nvPicPr>
          <p:cNvPr id="78" name="Picture 73" descr="Conversion - Premium HTML Template"/>
          <p:cNvPicPr/>
          <p:nvPr/>
        </p:nvPicPr>
        <p:blipFill>
          <a:blip r:embed="rId9"/>
          <a:stretch/>
        </p:blipFill>
        <p:spPr>
          <a:xfrm>
            <a:off x="2987640" y="5267160"/>
            <a:ext cx="2664000" cy="15908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9"/>
          <p:cNvSpPr/>
          <p:nvPr/>
        </p:nvSpPr>
        <p:spPr>
          <a:xfrm>
            <a:off x="5724360" y="6237360"/>
            <a:ext cx="2376720" cy="287280"/>
          </a:xfrm>
          <a:custGeom>
            <a:avLst/>
            <a:gdLst>
              <a:gd name="textAreaLeft" fmla="*/ 0 w 2376720"/>
              <a:gd name="textAreaRight" fmla="*/ 2037240 w 2376720"/>
              <a:gd name="textAreaTop" fmla="*/ 19152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  <p:sp>
        <p:nvSpPr>
          <p:cNvPr id="80" name="AutoShape 81"/>
          <p:cNvSpPr/>
          <p:nvPr/>
        </p:nvSpPr>
        <p:spPr>
          <a:xfrm flipV="1">
            <a:off x="1332000" y="6307920"/>
            <a:ext cx="1727280" cy="289080"/>
          </a:xfrm>
          <a:custGeom>
            <a:avLst/>
            <a:gdLst>
              <a:gd name="textAreaLeft" fmla="*/ 993600 w 1727280"/>
              <a:gd name="textAreaRight" fmla="*/ 1457640 w 1727280"/>
              <a:gd name="textAreaTop" fmla="*/ 38520 h 289080"/>
              <a:gd name="textAreaBottom" fmla="*/ 1234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Opcje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8920" y="1341360"/>
            <a:ext cx="85186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ajt kodu opcj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it 3-7 numer opcj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0 – koniec listy  - używane, gdy opcje nagłówka nie kończą się razem z końcem nagłówka (d=0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1 – brak przypisanej funkcji, służy do wyrównywania bajtów na liście opcji (d=0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2 – ograniczenia związane z bezpieczeństwem i obsługą (d=1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3 – zapisuj trasę (do śledzenia trasy) (d=zmienna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4 – do zapisywania czasów wzdłuż trasy pakietów (d=zmienna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7 – identyfikator strumienia – wycofany (d=zmienna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8 – rygorystyczne trasowanie według nadawcy (d=4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d = długość pola opcj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Strzałka w lewo 6"/>
          <p:cNvSpPr/>
          <p:nvPr/>
        </p:nvSpPr>
        <p:spPr>
          <a:xfrm>
            <a:off x="8028000" y="6093000"/>
            <a:ext cx="936720" cy="620640"/>
          </a:xfrm>
          <a:prstGeom prst="leftArrow">
            <a:avLst>
              <a:gd name="adj1" fmla="val 50000"/>
              <a:gd name="adj2" fmla="val 50037"/>
            </a:avLst>
          </a:prstGeom>
          <a:gradFill rotWithShape="0">
            <a:gsLst>
              <a:gs pos="0">
                <a:srgbClr val="6d3700"/>
              </a:gs>
              <a:gs pos="50000">
                <a:srgbClr val="ec7600"/>
              </a:gs>
              <a:gs pos="100000">
                <a:srgbClr val="6d37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onkluzj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tokół IPv4 jest w dalszym ciągu powszechnie wykorzystywany pomimo niedoskonałości tego rozwiąza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ace nad nowszą wersją protokołu IPv6 trwają od wielu l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Najważniejszym argumentem przemawiających za potrzebą migracji do nowszej wersji protokołu jest wzrastające zapotrzebowanie na liczbę dostępnych adresów Internetowyc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ytuł 1"/>
          <p:cNvSpPr/>
          <p:nvPr/>
        </p:nvSpPr>
        <p:spPr>
          <a:xfrm>
            <a:off x="6443640" y="6021360"/>
            <a:ext cx="254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©</a:t>
            </a:r>
            <a:r>
              <a:rPr b="1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Comic Sans MS"/>
              </a:rPr>
              <a:t>Wojciech Folta</a:t>
            </a:r>
            <a:endParaRPr b="0" lang="en-US" sz="1200" spc="-1" strike="noStrike">
              <a:solidFill>
                <a:srgbClr val="99fd9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Warstwa sieciowa  -  protokoł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IP wersja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IP wersja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Novell Internetwork Packet Exchange (IP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Apple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Connectionless Network Srevice (CL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Warstwa sieciowa – strukturalizacja sie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C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większenie wydajnoś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ezpieczeńs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Łatwość komunikac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Założenia podział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względnienie położenia geograficzn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Realizacja stawianych zada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względnienie praw właścicieli sie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Strukturalizacja sieci – </a:t>
            </a:r>
            <a:br>
              <a:rPr sz="32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większenie wydajności poprzez hierarchizacj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5640" y="1393920"/>
            <a:ext cx="78487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Strukturalizacja sieci – 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ezpieczeństwo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la firewall’a stojącego na drodze między przeglądark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 serwerem aplikacji ruch aplikacji internetowej będzie zwykłym ruchem HTTP lub HTTP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Tahoma"/>
              </a:rPr>
              <a:t>Tradycyjne firewalle analizują tylko trzecią i czwartą warstwę protokołów sieciow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jczęściej są to protokoły IP i TCP, filtrujące ruch na podstaw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źródłowego i docelowego adresu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źródłowego i docelowego numeru portu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anu sesji TCP (tylko firewalle statefull insp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</a:rPr>
              <a:t>Strukturalizacja sieci – </a:t>
            </a: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łatwość komunikac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479700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rama domyśl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6" descr="Rola bram domyślnych"/>
          <p:cNvPicPr/>
          <p:nvPr/>
        </p:nvPicPr>
        <p:blipFill>
          <a:blip r:embed="rId1"/>
          <a:stretch/>
        </p:blipFill>
        <p:spPr>
          <a:xfrm>
            <a:off x="1332000" y="1773360"/>
            <a:ext cx="60483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0:40:27Z</dcterms:created>
  <dc:creator>Wojciech</dc:creator>
  <dc:description/>
  <dc:language>en-US</dc:language>
  <cp:lastModifiedBy>Wojciech</cp:lastModifiedBy>
  <dcterms:modified xsi:type="dcterms:W3CDTF">2011-11-15T11:53:26Z</dcterms:modified>
  <cp:revision>111</cp:revision>
  <dc:subject/>
  <dc:title>Slajd 1</dc:title>
</cp:coreProperties>
</file>